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FC39-5285-46F0-9D54-2B9548C5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3CCE-D4D6-49B6-9783-2C663ED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8B44-29DE-4A21-90DB-134B6B8F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91F2-21AE-4B40-892C-4AE0A81A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1492-D02F-4D09-8624-197CE98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F1C9-CCF2-4562-A238-69B929B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F3C4-F8FC-4F16-886D-DA6B2D0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035-0113-470F-956C-B8A7C167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BA8-2CF9-480C-AF4F-97EB1502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694-75E5-41F6-856F-F71DD11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5237-2866-42BB-A559-C6B83D5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FFAC-9799-4563-8930-0B1234C1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7883-381A-40B3-B77D-469F13F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870B-EE83-4771-A31B-99A0AC0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2570-7DA7-4FA4-8CEE-D9391F8A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5BC-C52D-4DEB-8B41-C2A37DDD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C97-6A83-4E8A-BEED-886797FD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E9C5-6159-4C9C-BA98-28920ED4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B7EC-B78B-4E0B-A0A4-59E48C1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27E9-8536-47FD-B243-6ADE00B8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6221-6056-4848-865B-37F49183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E0C9F-399F-4A57-A2E9-75D92A0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9EEB-6270-4853-85BE-C8E384B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5272-B87E-426D-BD9E-6856E84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250-F39F-4D18-9838-330A35615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814-EC28-4C82-BEE8-7D11461B762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2D5-3DAA-495B-8250-C12C3AAEC59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85F-2603-4F8E-A16D-2007BC767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4A6B-1D4C-45D8-A653-262F594A9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DE48-E625-43A2-8C80-F1A5B6F4BC8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3</a:t>
            </a:r>
            <a:br>
              <a:rPr sz="4000"/>
            </a:br>
            <a:br>
              <a:rPr sz="4000"/>
            </a:br>
            <a:r>
              <a:rPr b="1" lang="en-US" sz="5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Ờ TRÌNH</a:t>
            </a:r>
            <a:br>
              <a:rPr sz="5800"/>
            </a:b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br>
              <a:rPr sz="4000"/>
            </a:br>
            <a:r>
              <a:rPr b="1" lang="en-US" sz="4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228-A75C-49A2-B2CB-8E554E524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48B-2E02-430A-91D1-D0DF0038B2C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ẫu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: Soạn Tờ tr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Horizontal Scroll 6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6E4-AF0D-452F-9161-7D2F0CBFA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AC23-3BFD-4AEF-AFFD-072878EF9B5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ùng cho CQ, TC cấp dư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 Đề xuất, xin phê duyệt vấn đề thuộc thẩm quyền quyết định của CQ, TC cấp trê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75B9-5A61-44E9-9C4D-9E5CB0433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1AB-0617-47A9-9951-FCBEB2706A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ấn đề xin phê duyệt, đề xuất phải được diễn giải bằng phương á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giải pháp thực hiện phải mang tính khả th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Horizontal Scroll 5"/>
          <p:cNvSpPr/>
          <p:nvPr/>
        </p:nvSpPr>
        <p:spPr>
          <a:xfrm>
            <a:off x="457200" y="109440"/>
            <a:ext cx="830592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652-D426-4595-B239-8058E0E42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0726-797F-4FE0-81D6-9CA0545199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hận định tình hình thực tế (thuận lợi, khó khăn) từ đó chỉ ra tính cấp thiết của vấn đề xin phê duyệt, đề xuấ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Horizontal Scroll 5"/>
          <p:cNvSpPr/>
          <p:nvPr/>
        </p:nvSpPr>
        <p:spPr>
          <a:xfrm>
            <a:off x="457200" y="0"/>
            <a:ext cx="8229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Ờ TRÌ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6"/>
          <p:cNvSpPr/>
          <p:nvPr/>
        </p:nvSpPr>
        <p:spPr>
          <a:xfrm>
            <a:off x="533520" y="9144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09480" y="419112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đề xuất, phương án thực h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8"/>
          <p:cNvSpPr/>
          <p:nvPr/>
        </p:nvSpPr>
        <p:spPr>
          <a:xfrm>
            <a:off x="533520" y="342900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Ý nghĩa, tác dụng của đề xuấ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Horizontal Scroll 10"/>
          <p:cNvSpPr/>
          <p:nvPr/>
        </p:nvSpPr>
        <p:spPr>
          <a:xfrm>
            <a:off x="533520" y="4876920"/>
            <a:ext cx="403848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6A1-730F-4881-8D0D-59C45388A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32AB-D74B-4B99-B129-FAD7E00853F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Tr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228600" y="5867280"/>
            <a:ext cx="37339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114800" y="5867280"/>
            <a:ext cx="5029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ỀN HẠN, 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1752480"/>
            <a:ext cx="9144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VNI-Times"/>
              </a:rPr>
              <a:t>      </a:t>
            </a: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Ờ TRÌN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. . . . . . . . . . . . . . 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ính gởi: …………………………………………………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ận định tình hình, phân tích thuận lợi, khó khăn làm cơ sở cho việc đề xuất vấn đề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nội dung của đề xuất, các phương án thực hiện, dự kiến vấn đề có thể phát sinh kh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Nêu khó khăn, thuận lợi (chủ quan, khách quan) khi triển khai thực hiện và dự kiến biện pháp khắc phục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ần kết thúc: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êu ý nghĩa, tác dụng của đề xuất; đề nghị cấp trên xem xét chấp thuận để sớm triển khai thực hiện.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3886200" y="259092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914400" y="609480"/>
            <a:ext cx="16765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724280" y="914400"/>
            <a:ext cx="3276720" cy="0"/>
          </a:xfrm>
          <a:prstGeom prst="line">
            <a:avLst/>
          </a:prstGeom>
          <a:ln w="2844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3C1-0786-4D49-817C-A23890830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2A16-7CF4-4DB5-B5F2-371D1DA8DEC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7" name="Picture 2" descr="http://trustbank.com.vn/img/Upload/26_10_2011_3_54_56_CH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http://3.bp.blogspot.com/-m8FhZRqtfPY/TvLwL3RoZOI/AAAAAAAABns/pX4BAgs-ALM/s640/0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Multiply 5"/>
          <p:cNvSpPr/>
          <p:nvPr/>
        </p:nvSpPr>
        <p:spPr>
          <a:xfrm>
            <a:off x="5029200" y="4800600"/>
            <a:ext cx="1828800" cy="19810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90A-947B-49A4-9560-43C675815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386D-DC1C-4AD7-B004-3340686FCAE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Horizontal Scroll 5"/>
          <p:cNvSpPr/>
          <p:nvPr/>
        </p:nvSpPr>
        <p:spPr>
          <a:xfrm>
            <a:off x="380880" y="76320"/>
            <a:ext cx="838224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)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ờ trình và những nội dung chính của tờ trình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7C7-78F7-4BF0-9AB8-BA4D6F655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825F-A3DF-48A7-801D-6B62EABBF29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33520" y="1143000"/>
            <a:ext cx="815328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Giám đốc Chi nhánh Công ty CP Hoa Mai tại Bình Dương, em hãy soạn Tờ trình gởi Tổng Giám đốc Công ty xin tuyển dụng 2 nhân viên cho Phòng Kinh doanh, mua một ô-tô tải 2,5 tấn phục vụ cho công việc kinh doanh của Chi nhá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Biết: Doanh thu 2013: 10 tỷ; lợi nhuận: 800 triệu; chỉ tiêu doanh thu 2014: 12 tỷ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Horizontal Scroll 5"/>
          <p:cNvSpPr/>
          <p:nvPr/>
        </p:nvSpPr>
        <p:spPr>
          <a:xfrm>
            <a:off x="380880" y="152280"/>
            <a:ext cx="8382240" cy="990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 (45p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2-17T03:32:27Z</dcterms:modified>
  <cp:revision>318</cp:revision>
  <dc:subject/>
  <dc:title>Chương 9.3</dc:title>
</cp:coreProperties>
</file>